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9F91-E322-4C94-9268-C6B7E9745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8E20-66CB-424F-AF8B-E5208E8A4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F70-192A-4AD6-A0AD-5CE4145D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514-92EF-4231-8834-E3E09177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DF9-BE6F-4BAF-8E4F-D75EAA50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89B-1F1C-4193-B306-D520F8AC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3E6A-13DE-498E-B06A-7175FCE4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C05B-5A0E-4569-8122-76A0BF8C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8648-1411-478C-9022-D44EF123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9911-F06F-43EB-BEF1-B497ACC7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8848-C498-4E0F-B6F3-1D7BE0C1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0E87-0819-4995-88A2-9F8B5B3B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20A6-3220-455C-A602-73EAD9DC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AD1-53A7-4480-8542-ED40097F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35DB-9939-4491-9325-26D3EFF2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4F30-37D7-410D-BF07-CEF04EF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A6F2-EBDF-437E-AA63-FBDF21DC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9C36-EBB6-4EA1-8ABB-131B6D6E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8A2E-C9B7-4AF9-A34B-FC372F91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AAA1-CAAC-44B0-9DB7-DF7AC75B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838C-A77B-411D-B06F-6975173B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73C5-34C7-4D26-93F8-6F9E3F3E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6B3F-0AB7-42F8-89A0-33DC0F22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C60E-9D86-490B-AB3D-2634F030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38B-1E11-4D25-A15C-947EC2D4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EC84-B6C4-4553-B9CB-26BF6309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2B96-327B-4E92-A0A3-044BAA8B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CF76-FFC6-4E2A-9B9B-36AB80B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539C-1706-48A6-9C64-571165DE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3AFD-B967-4BD3-AA44-928C5559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FF32-223A-410E-8498-EC3E4BB3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D9DB-4179-462C-A4CB-47D703B2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2F03-C505-43BD-ADD6-4A3A7DEB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2AA7-83C3-443D-823E-4D3BA71C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067A-7DCB-4F15-B05B-89F090F2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0A7-7676-415C-B7F6-162D8489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DB907-B13A-48F5-B31D-C33F361E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1826-B649-4E05-B4E7-E71227FA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58CD-9613-49C8-93DA-51E2400A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ABC79-2C19-416E-B9DA-52907F5B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F730-3AE2-4396-B46C-1106669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FBD4-870D-40F4-82CA-D6CEAF3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CC4D0-4DD6-4F19-8D93-7E5C899D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4F62-9DFC-4730-B613-51A19D5C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5B6C1-E60C-4F94-86F6-64908A01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A049-3FD7-41CD-A5D8-7A86642A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CE9-13FF-4574-9AD0-0656D73A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1D5D2-DFC2-48A0-B776-89ED333B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4300-20DB-4D86-902C-1C8E9851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94735-371B-4446-8EEE-3F267407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4043-6F04-4468-A856-523E4573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B88D-ED41-4420-9265-C1F6D2CD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33C6F-7F87-471D-AB44-9318496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3B62C-D79B-462D-8B8C-C4691665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348E1-E00B-47FB-A2A5-7D4A098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2DF52-1445-49FF-9EB6-B284DA9B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EBF06-94D7-4EFC-99BD-D65E6C74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C08-4BA3-44DC-9A0F-5AC7D575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48859-79B9-49EC-A017-EB4DE56E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2C2-A806-44F4-AD39-82EA6D15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AA6-C3CA-4454-9D44-66596EB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5B6-5229-4D36-A244-9B5AF3E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8151-E674-4A00-8319-842F28DA30B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B99E-FC84-4F75-84EA-DF835BD1AB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35CB-2969-40F9-8485-597D030F5E8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20FA-1D89-47B9-BA2E-9CD4D91F88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492-AAF4-4259-B80D-1E1BBEDDAC4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85D-8A18-4D02-901D-F7D42D1D7C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06D5-A4C4-4DCF-89A7-221D5A1A6BB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D41F-4171-49BC-B372-38D557909B34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7927-8A43-4F6D-8E79-33F539218D2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22A4-31B1-4E33-8503-C65BE22769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236520" y="1191960"/>
            <a:ext cx="5648400" cy="9442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PLC Team Norms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907560" y="1658520"/>
            <a:ext cx="6512040" cy="12542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What are norms?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eam Norms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 PLCs norms represent protocols and commitments developed by each team to guide members in working together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Norms help team members clarify expectations regarding how they will work together to achieve their shared goal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 Strategy for Establishing Team Norm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nk of a past negative experience you have had serving on a team or committee and identify a specific behavior that prevented your group from being effectiv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3059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NEGATIVE EXPERIENCES – POSITIVE COMMIT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2240" y="1100160"/>
            <a:ext cx="75218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r example, whining or complaining, arriving late and leaving early, texting during meeting, being disengaged during the meetings, and so o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r each negative norm identified by members of your team, establish a positive commitment statement (a norm) your team should adopt that, if everyone adhered to it, would prevent the past negative experience from recurring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10 minute activity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ips for Establishing Team Norm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100160"/>
            <a:ext cx="752184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team establishes its own norm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rms are stated as commitments to act in certain ways rather than as belief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rms are reviewed at the beginning and end of each meeting until each team member internalizes them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One norm should require the team to assess its effectiveness at least twice during each school year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s assessment should include a review of members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adherence to team norms and the need to add new norm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ess is more. A few key norms are better than a laundry list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Violation of norms should be addressed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AMPLES OF TEAM NORM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maintain a positive tone at our meeting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not complain about a problem unless we can offer a solution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begin and end our meetings on time and stay fully engaged throughout each meeting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contribute equally to the workload of this tea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listen respectfully and consider matters from another</a:t>
            </a:r>
            <a:r>
              <a:rPr b="0" i="1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s perspective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9:41:21Z</dcterms:created>
  <dc:creator>Authorized User</dc:creator>
  <dc:description/>
  <dc:language>en-US</dc:language>
  <cp:lastModifiedBy>Heather Davis Schmidt</cp:lastModifiedBy>
  <cp:lastPrinted>2011-08-22T20:34:20Z</cp:lastPrinted>
  <dcterms:modified xsi:type="dcterms:W3CDTF">2013-08-15T05:36:37Z</dcterms:modified>
  <cp:revision>5</cp:revision>
  <dc:subject/>
  <dc:title>PLC Team Norms</dc:title>
</cp:coreProperties>
</file>